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71A-E029-4B8F-9066-9DC9E752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11B-568C-4EB1-8EE3-0C6A6E04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33D-9CBC-488D-8D6E-1CB536D8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3AC-7656-4F5C-B39C-E03033F2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9E20-6ED8-430F-81AA-55AC7938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2E2B-3EA9-43D9-B9B6-5E5EE22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2018-F634-4212-9966-D65C1CD6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DE5-137C-4217-8733-EF78F0E9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469B-18F0-4D7E-96C9-E34B99A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27F0-6587-4E8C-BD56-8DD16CE2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AFA2-269A-4201-A3F3-A47DD7C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DDD-1172-4031-9926-24BA120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1978-65E2-45EE-9B74-38BACB6D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2643-D13B-4534-8441-CC36657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3EB8-BECB-4B71-94CB-61E85EEB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BA66-6EE0-4490-B949-6D5F26CB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5355-3001-4A85-B56F-A65CEEEB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0D4-3517-450E-A0D7-46990C38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CC5-E806-4BCB-8E57-7A892581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376-CA9D-4DC8-8B9A-65940801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EA6-001D-4A37-B621-12B16FF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F14-28BE-4401-B188-A099B0A4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18D-DFD7-4309-82A1-EAFEECDB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1A6-FCDB-4C36-AD5B-8C0819C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600"/>
              <a:ext cx="2195640" cy="2694960"/>
              <a:chOff x="3600" y="3639600"/>
              <a:chExt cx="2195640" cy="269496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98640" y="6161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0080" y="61506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372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08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81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132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29480" y="61621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36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4840" y="5692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6680" y="5722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3152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3080" y="5551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2840" y="5586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7920" y="5625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6520" y="53244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5120" y="5403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90200" y="54356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60120" y="5117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10800" y="52430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22040" y="49165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7120" y="5035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4640" y="482760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5112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7800" y="4173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3880" y="4235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4400" y="4262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11000" y="4030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4480" y="4060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8240" y="4087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704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4520" y="497988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7560" y="4992840"/>
                <a:ext cx="16365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40360" y="3926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7080" y="3947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51360" y="3851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4560" y="38649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9480" y="38754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9080" y="38944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30680" y="3804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5320" y="3815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3200" y="3823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7072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2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0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424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356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5920" y="383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3440" y="382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5640" y="381996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496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29040" y="3902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8360" y="3886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4440" y="38703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4040" y="38548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0080" y="4047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2240" y="3997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48320" y="3974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1160" y="39582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0120" y="393444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0720" y="552096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5080" y="444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2400" y="4527720"/>
                <a:ext cx="5032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8960" y="56847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5640" y="38638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200" y="37540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3960" y="378972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80240" y="3859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3840" y="39650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6040" y="4105440"/>
                <a:ext cx="274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20880" y="4268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902960" y="44524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5000" y="46508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920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70200" y="507960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188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68360" y="4838400"/>
                <a:ext cx="35064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ED74E4-79CE-49C5-AD60-4E4E952DEBF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600"/>
              <a:ext cx="2195640" cy="2694960"/>
              <a:chOff x="3600" y="3639600"/>
              <a:chExt cx="2195640" cy="269496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98640" y="61617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0080" y="61506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372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08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156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548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81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132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29480" y="61621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360" y="6077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328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440" y="5971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560" y="6000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8320" y="5927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4840" y="5692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6680" y="57229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3152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3080" y="5551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2840" y="5586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7920" y="5625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6520" y="53244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7800" y="5362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5120" y="5403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90200" y="54356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60120" y="5117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608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3168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10800" y="52430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22040" y="49165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6560" y="4956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5120" y="4995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7120" y="503568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5000" y="470808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4640" y="482760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7720" y="4512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5280" y="45460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9960" y="45842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51120" y="4328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8400" y="4370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81360" y="44064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7200" y="4438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7800" y="4173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70120" y="4200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3880" y="4235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4400" y="4262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11000" y="4030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4480" y="4060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8240" y="4087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704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4520" y="497988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7560" y="4992840"/>
                <a:ext cx="16365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40360" y="3926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7080" y="39470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416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6200" y="39841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51360" y="3851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4560" y="38649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9480" y="38754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9080" y="38944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30680" y="38041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5320" y="38152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3200" y="3823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70720" y="3827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2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08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424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356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5920" y="383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3440" y="382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5640" y="381996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4960" y="3810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29040" y="3902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8360" y="3886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4440" y="387036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4040" y="385488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0080" y="4047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2240" y="3997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48320" y="39740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1160" y="39582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0120" y="393444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0720" y="552096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5080" y="444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2400" y="4527720"/>
                <a:ext cx="5032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6800" y="621504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2360" y="621324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4880" y="5996160"/>
                <a:ext cx="209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8960" y="568476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5640" y="38638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200" y="37540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3960" y="378972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80240" y="38595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3840" y="39650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6040" y="4105440"/>
                <a:ext cx="274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20880" y="42688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902960" y="44524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5000" y="46508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5280" y="48686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9200" y="52959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52400" y="550044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70200" y="5079600"/>
                <a:ext cx="255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188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720" y="56365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68360" y="4838400"/>
                <a:ext cx="350640" cy="27612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8847E-8C2F-48C9-B430-BD3C6E27152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cialistgroup.org/gpes/images/ms/bird_oil_pollution_040406.jpg&amp;imgrefurl=http://www.socialistgroup.org/gpes/images/ms/&amp;h=210&amp;w=317&amp;sz=54&amp;tbnid=oBCA5-KJDWYJ:&amp;tbnh=74&amp;tbnw=113&amp;hl=en&amp;start=4&amp;prev=/images%3Fq%3Dbird%2Bpollution%26svnum%3D10%26hl%3Den%26lr%3D%26rls%3DGWYA,GWYA:2005-29,GWYA:en%26sa%3DN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cc"/>
                </a:solidFill>
                <a:latin typeface="Tahoma"/>
              </a:rPr>
              <a:t>Animal Survival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WALT: to know that animal survival is under thr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hi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But the existence of this species is increasingly threatened, due to poaching and habitat los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961080" cy="36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Marine Turt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reats like hunting for meat, shell and eggs; habitat destruction; fisheries bycatch; pollution; boat strikes; and introduced predators have wiped out entire turtle pop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103640" cy="287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ahoma"/>
              </a:rPr>
              <a:t>Why are these animals facing extinc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ar torn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unting and poaching (for sport, their fur, tusks or mea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llution/chemicals poison the anim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ew pred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imate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struction of habitat (woodlands cut down, rivers drying up, hedgerows remove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142560"/>
            <a:ext cx="85406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Tahoma"/>
              </a:rPr>
              <a:t>Caring for the Environment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member - once something becomes extinct, it’s gone forev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Near 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re habitats destroyed where we li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ES! To make room for motorways and housing e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What creatures can be hunted for spo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are creatures are still caught and sold as p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What is happening to help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Zoos, national parks and breeding in captivity means that species of animals are being preser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What can you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n’t leave litter beh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n’t damage or destroy trees, hedges and wild grassland- animals have homes to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769080" cy="522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76500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2857320" cy="3210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4067280" y="836640"/>
            <a:ext cx="216216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046680" cy="374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Some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 1950, 15% of the world was covered by rainforest. By 2000 it is estimated that only 7% of the rainforest will rem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y 2042 no rainforests will ex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0% of all living things are found in the 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re will be no tigers left in the world in 2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re has been animal and plant life on the Earth for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re have been many changes in climate, animals and 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is has led to the extinction of many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nce humans emerged animals and plants are dying out at a greater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dangered or Extinc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ut this is not true for all anim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 some cases, there are only a few of one type of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nimal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left in the wi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hese animals are endang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f they die out completely, they become extin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506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idered humans' closest relatives, great apes are among the world's most fascinating 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fortunately, they are also among its most threatened. Great apes of Africa and Asia could face extinction in the next few decades if more is not done to conserve the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276720" cy="46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6800"/>
            <a:ext cx="854064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y live in war-torn regions and are threatened by hunting for the commercial bushmeat tra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ir habitats are being destroyed and diseases such as Ebol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orangutan, is also losing much of its habitat to deforestation and deliberate burning to make way for agriculture and oil palm plant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lepha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504036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phants are the largest living land animals, with adults sometimes weighing six tons or mo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phants are threatened by shrinking living space and poaching for the ivory tr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s habitat shrinks, their huge appetite can bring them more frequently into conflict with peop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2975040" cy="424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an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t is estimated that as few as 1,600 pandas remain in the wild toda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96072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olar be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limate change is causing the disappearance of sea ice from which polar bears hunt their pr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ith less time on the ice to hunt for food and store leaves polar bears hung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154760" cy="43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36:12Z</dcterms:created>
  <dc:creator>Spud</dc:creator>
  <dc:description/>
  <dc:language>en-US</dc:language>
  <cp:lastModifiedBy>Pitchford</cp:lastModifiedBy>
  <dcterms:modified xsi:type="dcterms:W3CDTF">2005-11-15T15:16:30Z</dcterms:modified>
  <cp:revision>4</cp:revision>
  <dc:subject/>
  <dc:title>Animal Surviv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